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6E2-56EF-49FD-86A1-C1F74FB1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5F8-9BED-4E78-96DE-87E3AFD2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6CE-3FAD-48A9-88BE-8A76570A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84B-1812-4F0C-8CFA-D2171307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031-8051-4276-A130-9D2BDDCB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3DB-2D4E-40F2-B052-7761AF82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672-3910-43F2-9B4E-9D52132D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21B-9500-46DF-B4B6-C8D1FBA4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4B1-EE9F-4941-B9B0-34D25218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787-95B0-4EFC-A9DA-FF1CB341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CAF-3255-4F8D-9BC3-69CDE47A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4CD-5934-4B49-B7B5-B16493A8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3B15-1F2F-418A-9CCC-EA035584D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 2 October 25, 201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rm - u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23880" y="1752480"/>
                <a:ext cx="9144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671400" y="32781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95280" y="3251160"/>
                <a:ext cx="13716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the numbers easier to multiply, you can cross simplify before you begin the multi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43000" y="4419720"/>
                <a:ext cx="13716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62120" y="3733920"/>
            <a:ext cx="5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638680" y="4343400"/>
                <a:ext cx="19051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 Students will multiply fractions and mixed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pract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219320" y="2057400"/>
                <a:ext cx="99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714240" y="33764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371600" y="3429000"/>
                <a:ext cx="16765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57000" y="48020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5029200"/>
                <a:ext cx="16002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´</m:t>
                    </m:r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1:06:50Z</dcterms:created>
  <dc:creator>Brian McGrath</dc:creator>
  <dc:description/>
  <dc:language>en-US</dc:language>
  <cp:lastModifiedBy>deanne elizabeth mcgrath</cp:lastModifiedBy>
  <dcterms:modified xsi:type="dcterms:W3CDTF">2011-10-25T19:23:36Z</dcterms:modified>
  <cp:revision>6</cp:revision>
  <dc:subject/>
  <dc:title>Warm - up:</dc:title>
</cp:coreProperties>
</file>